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46F-0E79-4458-A268-5D4D7E42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904-7134-4565-952F-B94065F7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4324-4A60-4BD5-997C-A8B62382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27F-F1BD-40A8-8979-680500C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4B7E-92E0-4461-85E7-8E277C47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BD51-891D-4B9D-BD54-D456B84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0714-19B2-4BB0-8129-4BCD1F6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A65-5FC9-4D43-B76E-8C893E4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EF18-BEEB-4DD3-94DE-23BF9CCE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6538-E74B-4214-A78B-2FEB0FCE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88AB-D19A-47EA-940B-C415A66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862-F247-4800-843E-5074A5B3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741C-2F75-4219-ACF9-28BF36CA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600B-345C-4F8D-B34A-11D561A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B2B-3180-4C7E-9EB9-CFEA37D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6A62-A4C1-4C66-B175-950D9310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0FC-FC9F-47DF-9B63-E337AF2E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46DF-ECD5-4FFC-A52F-C9B17F3B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4EFB-2D57-4425-83BF-13B096EE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8F6E6-B8BF-4CBD-87E2-B48342C0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177B-A324-4589-8D92-FB20028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DA40-C15C-4FA5-975C-997D096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1B2-E0DF-4E2C-BE9D-E580CB49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E3653-6EAD-4090-8FBE-CC5676CA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00A92-5B30-44BF-85F4-DE5077F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2EFF-0F08-4ACF-B2E5-A176FC7C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3CC68-4EFE-4C5C-B211-8DCDD77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E86D-4922-4AF1-9614-34ECF2DC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7BA7-A986-4A5D-A34E-0BB93BB9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50A61-544F-414F-9DDB-D6BBBB4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A790-6594-43A5-BFC3-8D41DF30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BCCA3-744F-49B9-BE2F-489059B9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636A-F217-42BF-AB44-7DDF462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99D-1B6F-444C-B52E-C56B325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C2CC-A2EE-4E90-A418-843548DE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E638-C1E0-4235-B4F6-402D17C7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4C941-8B4A-4BC7-9D25-0B6EBE89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4DCE9-78AD-47B0-80E6-949F310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D6DA-596F-4BA9-84B3-4FE25152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D2D4-9916-46EC-979C-27CA30A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94E8-EA37-440F-B61B-147F8C7B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C6C1-FC2F-4DFD-830E-E7160406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C2295-7262-4F41-84BD-3805DDEB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C264-5660-4BF7-9B06-0682F5C1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0DD4-BD23-4F26-81AF-B5FA2FEA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7CF0-4FE7-4120-993B-618D5F02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AF86-1A92-42D4-A2E6-EDF64C65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C8D77-EE66-4147-A9ED-1898CF80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4289-FFCE-4BFB-8A28-E83CE858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8A78C-A3BC-4BDD-B7D5-76F90E2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3BA21-56A6-4122-9961-65A8A7E2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FAC3-D798-498E-8F3E-ADEC942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41BF5-7750-4C84-9588-2C08632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451D3-14D7-4BCE-ADDA-C517C05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448B9-459E-4C10-B3D8-43A3F1AB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E88-2BDA-4D5A-9282-835805E5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AD9B2-5622-4E32-A41A-10C6DB79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FAFC2-684D-4D29-A312-0E9E245B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60A8-CE5D-4730-8D90-9FDDEC0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87BA-105B-4559-B928-8A3EB8F6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750F3-85A2-41AC-B39F-269E05A2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3735-29A2-42B6-A4B7-31DA538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CBDE-5C5D-4079-83B5-2D8D614F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61EE-7161-426A-9CEE-3E4EC51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0DAC2-89FC-44BA-BC75-056A24AE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75168-8C45-4D11-B91D-0715C01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57F-C453-486D-9A88-7D72BE9B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3178-63D5-402F-B2DE-000764B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B3CB-DFE6-4814-BFED-18CB023D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6C6D6-375B-4702-A80F-18F98BAD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22EFB-F557-4899-95AA-39FABA0D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F1616-14CE-4695-947E-C1E27ADB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0DFC-379C-46D3-B91C-8894119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0988-8DDD-4466-9E32-DDBA0291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3C83-4185-4603-9E0F-3E653DDB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C19A-DEAF-4637-AA88-B01B3565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30B3-81EE-4D3D-B6C1-3E7E8181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AC8-99FC-4EF2-A72B-7E6162E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003E-375F-4160-83D2-C392ECF4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8B14-0349-40F7-A46D-A3575ABB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33CDC-877B-417B-BEAC-0B683D95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5799-0A96-4471-AC85-7BBDE0E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E1121-6DD1-4F3F-A77B-CA88AB3A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8C3-6117-4F3C-9E02-4B34F78C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D436-7D41-4BF2-B80D-6097BCAD57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376-CD08-4AFC-A865-AF598DD6F9D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9A1-1343-4E35-BD13-764A5D6A46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145-FE68-40A6-A02B-CD0F13245D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6614-CF3E-4A79-AB79-3A6739E104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5663-8F5E-4E8A-BF82-31ADD230FB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0114-164B-4D39-8808-E704426898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27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резентация на тему: «Способы решений задач и число решений задач»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411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Работу выполнил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ученица 7Б класса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МОУ СОШ №11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                                                                         </a:t>
            </a:r>
            <a:r>
              <a:rPr b="0" lang="ru-RU" sz="1700" spc="-1" strike="noStrike">
                <a:solidFill>
                  <a:srgbClr val="320e04"/>
                </a:solidFill>
                <a:latin typeface="Book Antiqua"/>
              </a:rPr>
              <a:t>Иванова Юлия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3"/>
          <p:cNvSpPr/>
          <p:nvPr/>
        </p:nvSpPr>
        <p:spPr>
          <a:xfrm>
            <a:off x="1042920" y="333360"/>
            <a:ext cx="81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1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◦. Найдите один из других его углов. Ответ дайте в градус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Равнобедренный треугольник 15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936720" y="4221000"/>
            <a:ext cx="81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C =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х,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 98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, а это </a:t>
            </a: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оставим и решим уравнение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TextBox 17"/>
          <p:cNvSpPr/>
          <p:nvPr/>
        </p:nvSpPr>
        <p:spPr>
          <a:xfrm>
            <a:off x="900000" y="36450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TextBox 18"/>
          <p:cNvSpPr/>
          <p:nvPr/>
        </p:nvSpPr>
        <p:spPr>
          <a:xfrm>
            <a:off x="1763640" y="162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2987640" y="3573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Прямая соединительная линия 21"/>
          <p:cNvSpPr/>
          <p:nvPr/>
        </p:nvSpPr>
        <p:spPr>
          <a:xfrm flipH="1">
            <a:off x="1115640" y="4508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ая соединительная линия 23"/>
          <p:cNvSpPr/>
          <p:nvPr/>
        </p:nvSpPr>
        <p:spPr>
          <a:xfrm>
            <a:off x="1116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Прямая соединительная линия 25"/>
          <p:cNvSpPr/>
          <p:nvPr/>
        </p:nvSpPr>
        <p:spPr>
          <a:xfrm flipH="1">
            <a:off x="176328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Прямая соединительная линия 26"/>
          <p:cNvSpPr/>
          <p:nvPr/>
        </p:nvSpPr>
        <p:spPr>
          <a:xfrm>
            <a:off x="176364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Прямая соединительная линия 27"/>
          <p:cNvSpPr/>
          <p:nvPr/>
        </p:nvSpPr>
        <p:spPr>
          <a:xfrm>
            <a:off x="284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Прямая соединительная линия 28"/>
          <p:cNvSpPr/>
          <p:nvPr/>
        </p:nvSpPr>
        <p:spPr>
          <a:xfrm>
            <a:off x="111600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ая соединительная линия 29"/>
          <p:cNvSpPr/>
          <p:nvPr/>
        </p:nvSpPr>
        <p:spPr>
          <a:xfrm>
            <a:off x="176364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Прямая соединительная линия 30"/>
          <p:cNvSpPr/>
          <p:nvPr/>
        </p:nvSpPr>
        <p:spPr>
          <a:xfrm flipH="1">
            <a:off x="284292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Прямая соединительная линия 31"/>
          <p:cNvSpPr/>
          <p:nvPr/>
        </p:nvSpPr>
        <p:spPr>
          <a:xfrm flipH="1">
            <a:off x="1763280" y="5157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Прямая соединительная линия 32"/>
          <p:cNvSpPr/>
          <p:nvPr/>
        </p:nvSpPr>
        <p:spPr>
          <a:xfrm flipH="1">
            <a:off x="1115640" y="5157720"/>
            <a:ext cx="142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Прямая соединительная линия 34"/>
          <p:cNvSpPr/>
          <p:nvPr/>
        </p:nvSpPr>
        <p:spPr>
          <a:xfrm flipH="1">
            <a:off x="2411280" y="515772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Прямая соединительная линия 36"/>
          <p:cNvSpPr/>
          <p:nvPr/>
        </p:nvSpPr>
        <p:spPr>
          <a:xfrm>
            <a:off x="241128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рямая соединительная линия 38"/>
          <p:cNvSpPr/>
          <p:nvPr/>
        </p:nvSpPr>
        <p:spPr>
          <a:xfrm>
            <a:off x="1547640" y="2565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Прямая соединительная линия 42"/>
          <p:cNvSpPr/>
          <p:nvPr/>
        </p:nvSpPr>
        <p:spPr>
          <a:xfrm flipV="1">
            <a:off x="2484360" y="263700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1042920" y="0"/>
            <a:ext cx="8101080" cy="82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+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+ 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82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х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способ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ем АС – основа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= (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- 98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)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: 2 =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твет: 41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решая задачу различными способами, мы получаем один и тот же отв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Прямая соединительная линия 2"/>
          <p:cNvSpPr/>
          <p:nvPr/>
        </p:nvSpPr>
        <p:spPr>
          <a:xfrm flipH="1">
            <a:off x="1187280" y="220500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Прямая соединительная линия 3"/>
          <p:cNvSpPr/>
          <p:nvPr/>
        </p:nvSpPr>
        <p:spPr>
          <a:xfrm flipH="1">
            <a:off x="1834920" y="220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Прямая соединительная линия 4"/>
          <p:cNvSpPr/>
          <p:nvPr/>
        </p:nvSpPr>
        <p:spPr>
          <a:xfrm>
            <a:off x="11872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>
            <a:off x="1835280" y="256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Прямая соединительная линия 6"/>
          <p:cNvSpPr/>
          <p:nvPr/>
        </p:nvSpPr>
        <p:spPr>
          <a:xfrm>
            <a:off x="18352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Прямая соединительная линия 7"/>
          <p:cNvSpPr/>
          <p:nvPr/>
        </p:nvSpPr>
        <p:spPr>
          <a:xfrm>
            <a:off x="111600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Прямая соединительная линия 8"/>
          <p:cNvSpPr/>
          <p:nvPr/>
        </p:nvSpPr>
        <p:spPr>
          <a:xfrm flipH="1">
            <a:off x="1834920" y="3645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Прямая соединительная линия 9"/>
          <p:cNvSpPr/>
          <p:nvPr/>
        </p:nvSpPr>
        <p:spPr>
          <a:xfrm flipH="1">
            <a:off x="1115640" y="3645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1042920" y="0"/>
            <a:ext cx="81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адача 2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Один из углов равнобедренного треугольника равен 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Найдите углы этого треугольн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Равнобедренный треугольник 3"/>
          <p:cNvSpPr/>
          <p:nvPr/>
        </p:nvSpPr>
        <p:spPr>
          <a:xfrm>
            <a:off x="1258920" y="1628640"/>
            <a:ext cx="172872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971640" y="3645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1835280" y="155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TextBox 7"/>
          <p:cNvSpPr/>
          <p:nvPr/>
        </p:nvSpPr>
        <p:spPr>
          <a:xfrm>
            <a:off x="305928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TextBox 8"/>
          <p:cNvSpPr/>
          <p:nvPr/>
        </p:nvSpPr>
        <p:spPr>
          <a:xfrm>
            <a:off x="4140360" y="1484280"/>
            <a:ext cx="410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,      C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рямая соединительная линия 13"/>
          <p:cNvSpPr/>
          <p:nvPr/>
        </p:nvSpPr>
        <p:spPr>
          <a:xfrm flipH="1">
            <a:off x="6011640" y="177336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Прямая соединительная линия 14"/>
          <p:cNvSpPr/>
          <p:nvPr/>
        </p:nvSpPr>
        <p:spPr>
          <a:xfrm>
            <a:off x="6012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рямая соединительная линия 16"/>
          <p:cNvSpPr/>
          <p:nvPr/>
        </p:nvSpPr>
        <p:spPr>
          <a:xfrm>
            <a:off x="572436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Прямая соединительная линия 17"/>
          <p:cNvSpPr/>
          <p:nvPr/>
        </p:nvSpPr>
        <p:spPr>
          <a:xfrm>
            <a:off x="5148360" y="24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рямая соединительная линия 18"/>
          <p:cNvSpPr/>
          <p:nvPr/>
        </p:nvSpPr>
        <p:spPr>
          <a:xfrm flipH="1">
            <a:off x="5724000" y="2060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Прямая соединительная линия 19"/>
          <p:cNvSpPr/>
          <p:nvPr/>
        </p:nvSpPr>
        <p:spPr>
          <a:xfrm flipH="1">
            <a:off x="5148000" y="2060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Прямая соединительная линия 21"/>
          <p:cNvSpPr/>
          <p:nvPr/>
        </p:nvSpPr>
        <p:spPr>
          <a:xfrm>
            <a:off x="1547640" y="2565360"/>
            <a:ext cx="2160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Прямая соединительная линия 23"/>
          <p:cNvSpPr/>
          <p:nvPr/>
        </p:nvSpPr>
        <p:spPr>
          <a:xfrm flipV="1">
            <a:off x="2340000" y="263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1835280" y="1916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25"/>
          <p:cNvSpPr/>
          <p:nvPr/>
        </p:nvSpPr>
        <p:spPr>
          <a:xfrm>
            <a:off x="1116000" y="3933720"/>
            <a:ext cx="8028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B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   C = (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 -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: 2 =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вет: 4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2 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TextBox 26"/>
          <p:cNvSpPr/>
          <p:nvPr/>
        </p:nvSpPr>
        <p:spPr>
          <a:xfrm>
            <a:off x="3708360" y="3213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Прямая соединительная линия 27"/>
          <p:cNvSpPr/>
          <p:nvPr/>
        </p:nvSpPr>
        <p:spPr>
          <a:xfrm flipH="1">
            <a:off x="4427280" y="393372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Прямая соединительная линия 28"/>
          <p:cNvSpPr/>
          <p:nvPr/>
        </p:nvSpPr>
        <p:spPr>
          <a:xfrm>
            <a:off x="442764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Прямая соединительная линия 30"/>
          <p:cNvSpPr/>
          <p:nvPr/>
        </p:nvSpPr>
        <p:spPr>
          <a:xfrm flipH="1">
            <a:off x="133164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Прямая соединительная линия 31"/>
          <p:cNvSpPr/>
          <p:nvPr/>
        </p:nvSpPr>
        <p:spPr>
          <a:xfrm flipH="1">
            <a:off x="1979280" y="4365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Прямая соединительная линия 32"/>
          <p:cNvSpPr/>
          <p:nvPr/>
        </p:nvSpPr>
        <p:spPr>
          <a:xfrm>
            <a:off x="1332000" y="47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Прямая соединительная линия 33"/>
          <p:cNvSpPr/>
          <p:nvPr/>
        </p:nvSpPr>
        <p:spPr>
          <a:xfrm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Равнобедренный треугольник 2"/>
          <p:cNvSpPr/>
          <p:nvPr/>
        </p:nvSpPr>
        <p:spPr>
          <a:xfrm>
            <a:off x="1332000" y="260280"/>
            <a:ext cx="1727280" cy="2160720"/>
          </a:xfrm>
          <a:prstGeom prst="triangle">
            <a:avLst>
              <a:gd name="adj" fmla="val 50000"/>
            </a:avLst>
          </a:prstGeom>
          <a:solidFill>
            <a:srgbClr val="e7dec9"/>
          </a:solidFill>
          <a:ln w="25560">
            <a:solidFill>
              <a:srgbClr val="dacc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Прямая соединительная линия 3"/>
          <p:cNvSpPr/>
          <p:nvPr/>
        </p:nvSpPr>
        <p:spPr>
          <a:xfrm>
            <a:off x="1692360" y="1125360"/>
            <a:ext cx="215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Прямая соединительная линия 4"/>
          <p:cNvSpPr/>
          <p:nvPr/>
        </p:nvSpPr>
        <p:spPr>
          <a:xfrm flipV="1">
            <a:off x="2484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TextBox 6"/>
          <p:cNvSpPr/>
          <p:nvPr/>
        </p:nvSpPr>
        <p:spPr>
          <a:xfrm>
            <a:off x="1116000" y="227664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190800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3059280" y="2205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4284720" y="189000"/>
            <a:ext cx="45720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ано: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ABC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 – равнобедренный,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С – основание,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йти: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,     C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Прямая соединительная линия 11"/>
          <p:cNvSpPr/>
          <p:nvPr/>
        </p:nvSpPr>
        <p:spPr>
          <a:xfrm flipH="1">
            <a:off x="6084360" y="476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Прямая соединительная линия 12"/>
          <p:cNvSpPr/>
          <p:nvPr/>
        </p:nvSpPr>
        <p:spPr>
          <a:xfrm>
            <a:off x="608472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ая соединительная линия 13"/>
          <p:cNvSpPr/>
          <p:nvPr/>
        </p:nvSpPr>
        <p:spPr>
          <a:xfrm flipH="1">
            <a:off x="5219280" y="83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Прямая соединительная линия 14"/>
          <p:cNvSpPr/>
          <p:nvPr/>
        </p:nvSpPr>
        <p:spPr>
          <a:xfrm flipH="1">
            <a:off x="5724000" y="83664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Прямая соединительная линия 15"/>
          <p:cNvSpPr/>
          <p:nvPr/>
        </p:nvSpPr>
        <p:spPr>
          <a:xfrm>
            <a:off x="521964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Прямая соединительная линия 16"/>
          <p:cNvSpPr/>
          <p:nvPr/>
        </p:nvSpPr>
        <p:spPr>
          <a:xfrm>
            <a:off x="5724360" y="119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TextBox 17"/>
          <p:cNvSpPr/>
          <p:nvPr/>
        </p:nvSpPr>
        <p:spPr>
          <a:xfrm>
            <a:off x="3635280" y="17002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1042920" y="2637000"/>
            <a:ext cx="8101080" cy="30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нем АС – основани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=    C =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     A +      C = 20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а это больше 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, что противоречит условию   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 +    B +    C =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◦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. То есть решения здесь нет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ывод: увидеть несколько решений в одной задаче – это неоднозначная формулировка условия задачи, а дальше умение найти несколько решений и ситу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Прямая соединительная линия 20"/>
          <p:cNvSpPr/>
          <p:nvPr/>
        </p:nvSpPr>
        <p:spPr>
          <a:xfrm flipH="1">
            <a:off x="118728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Прямая соединительная линия 21"/>
          <p:cNvSpPr/>
          <p:nvPr/>
        </p:nvSpPr>
        <p:spPr>
          <a:xfrm flipH="1">
            <a:off x="1834920" y="2924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Прямая соединительная линия 22"/>
          <p:cNvSpPr/>
          <p:nvPr/>
        </p:nvSpPr>
        <p:spPr>
          <a:xfrm flipH="1">
            <a:off x="3132000" y="2924280"/>
            <a:ext cx="14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Прямая соединительная линия 23"/>
          <p:cNvSpPr/>
          <p:nvPr/>
        </p:nvSpPr>
        <p:spPr>
          <a:xfrm flipH="1">
            <a:off x="3924000" y="292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Прямая соединительная линия 24"/>
          <p:cNvSpPr/>
          <p:nvPr/>
        </p:nvSpPr>
        <p:spPr>
          <a:xfrm flipH="1">
            <a:off x="4066920" y="3284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Прямая соединительная линия 25"/>
          <p:cNvSpPr/>
          <p:nvPr/>
        </p:nvSpPr>
        <p:spPr>
          <a:xfrm flipH="1">
            <a:off x="478764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Прямая соединительная линия 26"/>
          <p:cNvSpPr/>
          <p:nvPr/>
        </p:nvSpPr>
        <p:spPr>
          <a:xfrm flipH="1">
            <a:off x="5435280" y="3357720"/>
            <a:ext cx="144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118728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835280" y="3284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313200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3924360" y="32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4067280" y="36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478800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543564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059280" y="2781360"/>
            <a:ext cx="26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Конец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5:02:26Z</dcterms:created>
  <dc:creator>1</dc:creator>
  <dc:description/>
  <dc:language>en-US</dc:language>
  <cp:lastModifiedBy>k308-1</cp:lastModifiedBy>
  <dcterms:modified xsi:type="dcterms:W3CDTF">2013-03-19T12:51:19Z</dcterms:modified>
  <cp:revision>20</cp:revision>
  <dc:subject/>
  <dc:title>Презентация на тему: «Способы решений задач и число решений задач»</dc:title>
</cp:coreProperties>
</file>